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4124-F404-4E51-BD09-007D75875BC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2CC5-C2ED-4980-9934-AE66AF7DF1C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419-949B-455C-8505-6FC363C7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95E-F56D-43F4-BFDD-4E0BD618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612-E034-4A89-88AC-524EA283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D0F-5C65-4A01-A679-461A45AB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0AF-98E2-4E66-8742-B1B2BA39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234-FC26-4DF9-8F4C-F756EEA7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93B-F022-4654-ABAC-EB7A8FEB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606-E74C-456C-9AE7-EDA2FF35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D68-E1FA-4042-A758-6C4A9A0F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9D1-9E6E-460D-8BB9-D40AA24E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12D-AD44-41EF-96FC-BFDACB41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12F-00C2-43D7-A196-543CAB3F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AFE6-5E10-45B8-AEAC-8815743C54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5-4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用人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用人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0505w1</cp:lastModifiedBy>
  <dcterms:modified xsi:type="dcterms:W3CDTF">2012-09-24T06:38:52Z</dcterms:modified>
  <cp:revision>20</cp:revision>
  <dc:subject/>
  <dc:title>PowerPoint 演示文稿</dc:title>
</cp:coreProperties>
</file>