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B0E-FA38-4DA2-AD8E-45B691D2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2DD-2E5D-4951-965E-164C4F76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7E7-6154-4059-910E-62C09B12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B9D-7544-4466-A244-8793862A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207-166B-4231-9F36-1739D7D5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F8B-8B03-4C9E-8DBB-65482695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C80-4FB0-409D-8580-8D0F7A14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1DB-5D4E-45A8-9BE5-3C1295A8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1D7-1D5E-48C8-926C-EB52D43A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0A0-FAD3-44B0-86D7-5160098E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A5D-5437-470B-B506-44EE763A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14E-1E50-4710-ABC1-0DFADCE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916B-17CD-4E5D-9385-4DA96CB141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00000" y="2924280"/>
            <a:ext cx="7488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宋体"/>
              </a:rPr>
              <a:t>一级学科（研究方向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-391320" y="0"/>
            <a:ext cx="97236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宁夏医科大学二○二○届毕业研究生情况简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315600" y="3352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工作简历（从本科开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761840" y="400356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间                                        何地从事何种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826920" y="393372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838080" y="449568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838080" y="624852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876240" y="4572000"/>
            <a:ext cx="77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3.9-1997 .6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国农业大学学习                  学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876240" y="5105520"/>
            <a:ext cx="82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7.8~2004.8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百盛餐饮集团                           职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876240" y="5603760"/>
            <a:ext cx="77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4.9~2017.6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宁夏医科大学                          教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712800" y="380880"/>
            <a:ext cx="52275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究生姓名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           号 ：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           别 ：       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 生 年 月 ：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75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 科 专 业 ：   神经病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 究 方 向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导 师 姓 名 ：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***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9" descr="u=3112610973,2445662355&amp;fm=58"/>
          <p:cNvPicPr/>
          <p:nvPr/>
        </p:nvPicPr>
        <p:blipFill>
          <a:blip r:embed="rId1"/>
          <a:stretch/>
        </p:blipFill>
        <p:spPr>
          <a:xfrm>
            <a:off x="7236000" y="333360"/>
            <a:ext cx="15732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620640"/>
          <a:ext cx="8496360" cy="5475240"/>
        </p:xfrm>
        <a:graphic>
          <a:graphicData uri="http://schemas.openxmlformats.org/drawingml/2006/table">
            <a:tbl>
              <a:tblPr/>
              <a:tblGrid>
                <a:gridCol w="628920"/>
                <a:gridCol w="1341360"/>
                <a:gridCol w="1727280"/>
                <a:gridCol w="3308040"/>
                <a:gridCol w="1490760"/>
              </a:tblGrid>
              <a:tr h="538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学位论文题目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题经费来源（项目编号）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学位论文盲审评阅成绩（平均分）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姓  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职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导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工作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马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教授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博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主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委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委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委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委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学位论文答辩成绩（平均成绩）：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**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Text Box 2"/>
          <p:cNvSpPr/>
          <p:nvPr/>
        </p:nvSpPr>
        <p:spPr>
          <a:xfrm>
            <a:off x="34920" y="0"/>
            <a:ext cx="54612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宁夏医科大学二○二〇届毕业研究生情况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0920" y="169920"/>
          <a:ext cx="8642160" cy="6545160"/>
        </p:xfrm>
        <a:graphic>
          <a:graphicData uri="http://schemas.openxmlformats.org/drawingml/2006/table">
            <a:tbl>
              <a:tblPr/>
              <a:tblGrid>
                <a:gridCol w="792000"/>
                <a:gridCol w="2592360"/>
                <a:gridCol w="936720"/>
                <a:gridCol w="936720"/>
                <a:gridCol w="2448000"/>
                <a:gridCol w="936360"/>
              </a:tblGrid>
              <a:tr h="50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程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成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程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成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700200">
                <a:tc row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现代科学技术革命与马克思主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row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高级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6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获得学分：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*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获得学分：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1]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李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X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，王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X.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小鼠卵巢器官不同部位移植的比较研究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中国组织工程研究与临床康复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2015,18:3530-3534. </a:t>
                      </a: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IF1.72</a:t>
                      </a: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25"/>
          <p:cNvSpPr/>
          <p:nvPr/>
        </p:nvSpPr>
        <p:spPr>
          <a:xfrm>
            <a:off x="-377640" y="5373720"/>
            <a:ext cx="1400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在校期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发表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8T08:31:27Z</dcterms:created>
  <dc:creator/>
  <dc:description/>
  <dc:language>en-US</dc:language>
  <cp:lastModifiedBy>微软用户</cp:lastModifiedBy>
  <dcterms:modified xsi:type="dcterms:W3CDTF">2020-05-19T01:21:28Z</dcterms:modified>
  <cp:revision>12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