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3BAC-7054-40AE-90FE-6DAB56BD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87B7-B5B4-4FDE-BC7C-14D63577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65DA-A215-4843-96E2-C3041C45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58C-EA38-4A25-B47F-A8093EA7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070-818F-4426-92A7-CE413A1F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06E-E226-4BC7-A226-5AE3F928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9D6-7E02-4AD6-8D5E-01BD9920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C44A-1D2D-433C-9F2B-8813C846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CCD-37C1-4DEA-85CA-7E5E2CFA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852-DAAC-45EE-9B88-9E61AAFF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1EEF-BDE2-4D7E-A729-16EB27A0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E70-E25B-4E3C-A28F-541F0B7B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8489-03DB-4CA7-9244-7E59A3D69D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155736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143000" y="2071800"/>
            <a:ext cx="6659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填表说明：此幻灯为各学院开学位评定分委员会所用，请各位同学按表中给定格式认真如实填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-391320" y="0"/>
            <a:ext cx="972360" cy="68580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宁夏医科大学二○二○届毕业研究生情况简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298680" y="3352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作简历（从大学开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761840" y="4003560"/>
            <a:ext cx="51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间                                        何地从事何种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838080" y="3962520"/>
            <a:ext cx="78487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838080" y="4495680"/>
            <a:ext cx="78487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838080" y="6248520"/>
            <a:ext cx="78487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876240" y="4572000"/>
            <a:ext cx="77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5.9~2010.6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宁夏医科大学学习                       学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876240" y="5105520"/>
            <a:ext cx="82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10.7~2013.8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银川市第一人民医院工作       住院医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876240" y="5603760"/>
            <a:ext cx="77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13.9~2016.6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宁夏医科大学攻读硕士学位       学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712800" y="380880"/>
            <a:ext cx="33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研究生姓名：   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730080" y="129528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性           别 ：       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712800" y="1752480"/>
            <a:ext cx="38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出 生 年 月 ：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90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700200" y="2209680"/>
            <a:ext cx="48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 科 专 业 ：   内科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1117080" y="266688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导 师 姓 名 ：   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教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730080" y="838080"/>
            <a:ext cx="49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           号 ：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1700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1" descr="u=3112610973,2445662355&amp;fm=58"/>
          <p:cNvPicPr/>
          <p:nvPr/>
        </p:nvPicPr>
        <p:blipFill>
          <a:blip r:embed="rId1"/>
          <a:stretch/>
        </p:blipFill>
        <p:spPr>
          <a:xfrm>
            <a:off x="7308720" y="189000"/>
            <a:ext cx="14288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66760" y="633240"/>
            <a:ext cx="8553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位论文题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枸杞多糖对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型糖尿病大鼠胰岛素抵抗的作用及机制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24000" y="184464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学位论文盲审情况（平均分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403280" y="267192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姓  名    专业职称       工作单位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324000" y="1700280"/>
            <a:ext cx="8534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343080" y="2565360"/>
            <a:ext cx="8534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343080" y="3071880"/>
            <a:ext cx="8534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250920" y="371628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答辩委员会 成 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343080" y="5052960"/>
            <a:ext cx="8534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2346840" y="3108240"/>
            <a:ext cx="546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邱某某            教   授                天津医科大学总医院                   主  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409120" y="3487680"/>
            <a:ext cx="54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张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某某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教  授                宁夏医科大学总医院                    委  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2460960" y="3868560"/>
            <a:ext cx="53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杨某某            教  授      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宁夏医科大学总医院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委  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2554920" y="425124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董某某            副主任医师      宁夏医科大学总医院                    委  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2350440" y="462276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王某某            教  授      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宁夏医科大学                             委  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250920" y="517032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位论文答辩成绩（平均成绩）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>
            <a:off x="343080" y="5738760"/>
            <a:ext cx="8534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1388880" y="5815080"/>
            <a:ext cx="51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英语水平考试成绩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学位英语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合格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8.1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>
            <a:off x="343080" y="6424560"/>
            <a:ext cx="8534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343080" y="404640"/>
            <a:ext cx="8534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3"/>
          <p:cNvSpPr/>
          <p:nvPr/>
        </p:nvSpPr>
        <p:spPr>
          <a:xfrm>
            <a:off x="336600" y="404640"/>
            <a:ext cx="85345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283400" y="453960"/>
            <a:ext cx="67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课程名称                           成绩                  课程名称                            成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82880" y="1428480"/>
            <a:ext cx="4852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学   位   课   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647240" y="1233360"/>
            <a:ext cx="48528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非   学   位   课   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336600" y="938160"/>
            <a:ext cx="85345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>
            <a:off x="793800" y="131904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793800" y="170028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793800" y="208116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793800" y="246204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>
            <a:off x="793800" y="284328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793800" y="322416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793800" y="360504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793800" y="398628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5213520" y="131904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5213520" y="170028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5213520" y="208116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>
            <a:off x="5213520" y="246204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5213520" y="284328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5213520" y="322416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5213520" y="360504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3"/>
          <p:cNvSpPr/>
          <p:nvPr/>
        </p:nvSpPr>
        <p:spPr>
          <a:xfrm>
            <a:off x="5213520" y="398628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4"/>
          <p:cNvSpPr/>
          <p:nvPr/>
        </p:nvSpPr>
        <p:spPr>
          <a:xfrm>
            <a:off x="336600" y="4443480"/>
            <a:ext cx="85345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254520" y="4390200"/>
            <a:ext cx="7902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在校期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发表论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6"/>
          <p:cNvSpPr/>
          <p:nvPr/>
        </p:nvSpPr>
        <p:spPr>
          <a:xfrm>
            <a:off x="324000" y="5734080"/>
            <a:ext cx="8534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692280" y="914400"/>
            <a:ext cx="35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自然辩证法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685800" y="1295280"/>
            <a:ext cx="35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科学社会主义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692280" y="1676520"/>
            <a:ext cx="35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公共英语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0"/>
          <p:cNvSpPr/>
          <p:nvPr/>
        </p:nvSpPr>
        <p:spPr>
          <a:xfrm>
            <a:off x="692280" y="2057400"/>
            <a:ext cx="36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专业英语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1"/>
          <p:cNvSpPr/>
          <p:nvPr/>
        </p:nvSpPr>
        <p:spPr>
          <a:xfrm>
            <a:off x="692280" y="2438280"/>
            <a:ext cx="37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分子生物学实验技术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2"/>
          <p:cNvSpPr/>
          <p:nvPr/>
        </p:nvSpPr>
        <p:spPr>
          <a:xfrm>
            <a:off x="684360" y="285264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实用多因素统计学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3"/>
          <p:cNvSpPr/>
          <p:nvPr/>
        </p:nvSpPr>
        <p:spPr>
          <a:xfrm>
            <a:off x="692280" y="3200400"/>
            <a:ext cx="36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高级生物化学技术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4"/>
          <p:cNvSpPr/>
          <p:nvPr/>
        </p:nvSpPr>
        <p:spPr>
          <a:xfrm>
            <a:off x="692280" y="3581280"/>
            <a:ext cx="35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内科内分泌学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5"/>
          <p:cNvSpPr/>
          <p:nvPr/>
        </p:nvSpPr>
        <p:spPr>
          <a:xfrm>
            <a:off x="5148360" y="981000"/>
            <a:ext cx="37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医学科研方法学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6"/>
          <p:cNvSpPr/>
          <p:nvPr/>
        </p:nvSpPr>
        <p:spPr>
          <a:xfrm>
            <a:off x="5148360" y="134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文献检索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7"/>
          <p:cNvSpPr/>
          <p:nvPr/>
        </p:nvSpPr>
        <p:spPr>
          <a:xfrm>
            <a:off x="5148360" y="1773360"/>
            <a:ext cx="36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医学分子生物学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8"/>
          <p:cNvSpPr/>
          <p:nvPr/>
        </p:nvSpPr>
        <p:spPr>
          <a:xfrm>
            <a:off x="5148360" y="213372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医用统计学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9"/>
          <p:cNvSpPr/>
          <p:nvPr/>
        </p:nvSpPr>
        <p:spPr>
          <a:xfrm>
            <a:off x="5148360" y="249228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计算机应用基础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0"/>
          <p:cNvSpPr/>
          <p:nvPr/>
        </p:nvSpPr>
        <p:spPr>
          <a:xfrm>
            <a:off x="5219640" y="292428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体育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1"/>
          <p:cNvSpPr/>
          <p:nvPr/>
        </p:nvSpPr>
        <p:spPr>
          <a:xfrm>
            <a:off x="1116000" y="4724280"/>
            <a:ext cx="76359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李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,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王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.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枸杞多糖对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型糖尿病大鼠血糖、血脂及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NF-α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水平的影响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宁夏医学杂志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2015, 3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:201-2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2"/>
          <p:cNvSpPr/>
          <p:nvPr/>
        </p:nvSpPr>
        <p:spPr>
          <a:xfrm>
            <a:off x="5219640" y="328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实验动物学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8T08:29:00Z</dcterms:created>
  <dc:creator/>
  <dc:description/>
  <dc:language>en-US</dc:language>
  <cp:lastModifiedBy>微软用户</cp:lastModifiedBy>
  <dcterms:modified xsi:type="dcterms:W3CDTF">2020-05-19T01:23:25Z</dcterms:modified>
  <cp:revision>11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6370</vt:lpwstr>
  </property>
</Properties>
</file>