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BA09-8480-4B0B-A378-7D32B905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896-3082-4F68-8D92-DCAFC2A8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E8D2-8696-4EE6-A2A5-DD4A93EA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AC4-B8A2-4470-AD4E-F4F97E6A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920-2323-455E-8637-624AF1C5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EEB-C689-4938-9671-66AE3C38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529-9AB9-418D-94E8-00B0AAE3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BC2B-5152-4F15-9123-1B266D4D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D64-581C-4AD8-85BD-B5C6A581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B760-43FA-453F-B002-CADC90EF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6F0-0B67-4B7E-AC10-1809EFE4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CC6D-2D72-4C3C-AB19-BD770D4B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C678-EDDF-4AEB-B56B-222FB65C97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95280" y="549360"/>
            <a:ext cx="81360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填表说明：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此幻灯片为 开校学位评定委员会 为各位委员介绍授予学位学生基     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                   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                   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本情况所用，请认真如实填写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姓名</a:t>
            </a:r>
            <a:r>
              <a:rPr b="1" lang="zh-CN" sz="2400" spc="-1" strike="noStrike">
                <a:solidFill>
                  <a:srgbClr val="00cc99"/>
                </a:solidFill>
                <a:latin typeface="Times New Roman"/>
              </a:rPr>
              <a:t>”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导师</a:t>
            </a:r>
            <a:r>
              <a:rPr b="1" lang="zh-CN" sz="2400" spc="-1" strike="noStrike">
                <a:solidFill>
                  <a:srgbClr val="00cc99"/>
                </a:solidFill>
                <a:latin typeface="Times New Roman"/>
              </a:rPr>
              <a:t>”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英语水平</a:t>
            </a:r>
            <a:r>
              <a:rPr b="1" lang="zh-CN" sz="2400" spc="-1" strike="noStrike">
                <a:solidFill>
                  <a:srgbClr val="00cc99"/>
                </a:solidFill>
                <a:latin typeface="Times New Roman"/>
              </a:rPr>
              <a:t>”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论文题目</a:t>
            </a:r>
            <a:r>
              <a:rPr b="1" lang="zh-CN" sz="2400" spc="-1" strike="noStrike">
                <a:solidFill>
                  <a:srgbClr val="00cc99"/>
                </a:solidFill>
                <a:latin typeface="Times New Roman"/>
              </a:rPr>
              <a:t>”</a:t>
            </a:r>
            <a:r>
              <a:rPr b="0" lang="zh-CN" sz="1800" spc="-1" strike="noStrike">
                <a:solidFill>
                  <a:srgbClr val="00cc99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为  </a:t>
            </a: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24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号    宋体字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、论文题目 “内容 ”为</a:t>
            </a: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18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号   宋体字      在校期间发表论文 “内容 ”为</a:t>
            </a: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16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号  宋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体字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 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、在校期间，通过“学位英语”或“国家六级”者   在  英语水平一栏  分别填写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         “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学位英语   通过”或“国家六级   </a:t>
            </a: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××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分”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4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、一张幻灯片上填写 两位同学的信息，原则为：在同一个二级学科内自由搭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       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配，比如：“内科学”的学生只能在本学 科内互相搭配。在二级学科搭配的       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     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前提下，科研型和科研型的搭配，临床型和临床型的搭配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                      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5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、填写完，连同所有毕业材料于</a:t>
            </a: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6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月</a:t>
            </a: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日前送交各学院研究生办公室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00000" y="2924280"/>
            <a:ext cx="7488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宋体"/>
              </a:rPr>
              <a:t>人体解剖与组织胚胎学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4"/>
          <p:cNvSpPr/>
          <p:nvPr/>
        </p:nvSpPr>
        <p:spPr>
          <a:xfrm>
            <a:off x="0" y="692280"/>
            <a:ext cx="85345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2349360"/>
            <a:ext cx="85345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600" y="2228760"/>
            <a:ext cx="79020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在校期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发表论文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042920" y="2421000"/>
            <a:ext cx="76359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李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XX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，王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XX. 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小鼠卵巢自体移植后血管重建及移植部位血管密度的实验研究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宁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夏医科大学学报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,2015,31(2):141-143.</a:t>
            </a:r>
            <a:r>
              <a:rPr b="1" lang="zh-CN" sz="1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李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XX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，王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XX.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小鼠卵巢器官不同部位移植的比较研究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中国组织工程研究与临床康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复，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2015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18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3530-3534. 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0" y="3573360"/>
            <a:ext cx="85345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332000" y="162864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论文题目：</a:t>
            </a:r>
            <a:r>
              <a:rPr b="1" lang="en-US" sz="1800" spc="-1" strike="noStrike">
                <a:solidFill>
                  <a:srgbClr val="ffffff"/>
                </a:solidFill>
                <a:latin typeface="宋体"/>
              </a:rPr>
              <a:t>HMG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的实时干预对小鼠卵巢移植结局影响的研究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332000" y="472428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论文题目：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绵羊卵巢组织大皮质块超速玻璃化冻存研究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22"/>
          <p:cNvSpPr/>
          <p:nvPr/>
        </p:nvSpPr>
        <p:spPr>
          <a:xfrm>
            <a:off x="3600" y="5181480"/>
            <a:ext cx="79020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在校期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发表论文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23"/>
          <p:cNvSpPr/>
          <p:nvPr/>
        </p:nvSpPr>
        <p:spPr>
          <a:xfrm>
            <a:off x="0" y="6669000"/>
            <a:ext cx="85345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24"/>
          <p:cNvSpPr/>
          <p:nvPr/>
        </p:nvSpPr>
        <p:spPr>
          <a:xfrm>
            <a:off x="0" y="5229360"/>
            <a:ext cx="85345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9" descr="u=3112610973,2445662355&amp;fm=58"/>
          <p:cNvPicPr/>
          <p:nvPr/>
        </p:nvPicPr>
        <p:blipFill>
          <a:blip r:embed="rId1"/>
          <a:stretch/>
        </p:blipFill>
        <p:spPr>
          <a:xfrm>
            <a:off x="0" y="717480"/>
            <a:ext cx="1332000" cy="158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0" descr="u=3112610973,2445662355&amp;fm=58"/>
          <p:cNvPicPr/>
          <p:nvPr/>
        </p:nvPicPr>
        <p:blipFill>
          <a:blip r:embed="rId2"/>
          <a:stretch/>
        </p:blipFill>
        <p:spPr>
          <a:xfrm>
            <a:off x="0" y="3611520"/>
            <a:ext cx="1332000" cy="1584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1343160" y="3666960"/>
            <a:ext cx="279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学生：李</a:t>
            </a: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XX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导师：王</a:t>
            </a: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XX 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教授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564080" y="3621240"/>
            <a:ext cx="41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答辩成绩：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**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分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英语水平：通过学位英语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442880" y="693720"/>
            <a:ext cx="279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学生：李</a:t>
            </a: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XX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导师：王</a:t>
            </a: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XX 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教授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564080" y="674640"/>
            <a:ext cx="41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答辩成绩：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**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分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英语水平：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ET  488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分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114560" y="5464080"/>
            <a:ext cx="76356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李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XX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，王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XX. 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小鼠卵巢自体移植后血管重建及移植部位血管密度的实验研究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宁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夏医科大学学报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,2015,31(2):141-143.</a:t>
            </a:r>
            <a:r>
              <a:rPr b="1" lang="zh-CN" sz="1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李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XX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，王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XX.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小鼠卵巢器官不同部位移植的比较研究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中国组织工程研究与临床康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复，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2015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18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3530-3534. 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李宏辉</cp:lastModifiedBy>
  <dcterms:modified xsi:type="dcterms:W3CDTF">2019-04-16T01:53:11Z</dcterms:modified>
  <cp:revision>881</cp:revision>
  <dc:subject/>
  <dc:title>PowerPoint Presentation</dc:title>
</cp:coreProperties>
</file>