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BFC9-2FCF-459E-845D-B525150FA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0C1D-ACCF-487E-9BFA-86F7B9AAC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683E-FDC6-4439-89B5-D84D2CF57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6368-9CE5-450F-B9E6-93C20FA93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6C96-D8E7-41B4-9F5A-B795F1A0B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4EA5-25D7-43C3-B548-843BB6169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BCE5-26B6-4E29-8570-266B7A218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2797-067B-4EB7-91A8-3668E35F0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3280-BB8A-46DC-B914-FAD903B5D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D46F-EC97-4A16-B1B5-718A50C0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3BD0-009F-4A88-AA12-A08EBFC3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595D-CCE5-4073-A37C-6DB9C2FA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060EF-36F6-4475-8056-9248A010639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900000" y="2924280"/>
            <a:ext cx="7488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宋体"/>
              </a:rPr>
              <a:t>二级学科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46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宁夏医科大学二○一九届毕业研究生情况简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3315600" y="3352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方正小标宋简体"/>
                <a:ea typeface="方正小标宋简体"/>
              </a:rPr>
              <a:t>工作简历（从本科开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761840" y="4003560"/>
            <a:ext cx="51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时间                                        何地从事何种工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6"/>
          <p:cNvSpPr/>
          <p:nvPr/>
        </p:nvSpPr>
        <p:spPr>
          <a:xfrm>
            <a:off x="826920" y="3933720"/>
            <a:ext cx="784872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7"/>
          <p:cNvSpPr/>
          <p:nvPr/>
        </p:nvSpPr>
        <p:spPr>
          <a:xfrm>
            <a:off x="838080" y="4495680"/>
            <a:ext cx="784872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8"/>
          <p:cNvSpPr/>
          <p:nvPr/>
        </p:nvSpPr>
        <p:spPr>
          <a:xfrm>
            <a:off x="838080" y="6248520"/>
            <a:ext cx="784872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876240" y="4572000"/>
            <a:ext cx="77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993.9-1997 .6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中国农业大学学习                  学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876240" y="5105520"/>
            <a:ext cx="826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997.8~2004.8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百盛餐饮集团                           职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876240" y="5603760"/>
            <a:ext cx="779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04.9~2017.6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宁夏医科大学                          教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3"/>
          <p:cNvSpPr/>
          <p:nvPr/>
        </p:nvSpPr>
        <p:spPr>
          <a:xfrm>
            <a:off x="712800" y="380880"/>
            <a:ext cx="5227560" cy="29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研究生姓名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*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           号 ：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*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性           别 ：       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出 生 年 月 ：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975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 科 专 业 ：   公共卫生与预防医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研 究 方 向 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导 师 姓 名 ：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***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教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9" descr="u=3112610973,2445662355&amp;fm=58"/>
          <p:cNvPicPr/>
          <p:nvPr/>
        </p:nvPicPr>
        <p:blipFill>
          <a:blip r:embed="rId1"/>
          <a:stretch/>
        </p:blipFill>
        <p:spPr>
          <a:xfrm>
            <a:off x="7236000" y="333360"/>
            <a:ext cx="15732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39640" y="620640"/>
          <a:ext cx="8496360" cy="5475240"/>
        </p:xfrm>
        <a:graphic>
          <a:graphicData uri="http://schemas.openxmlformats.org/drawingml/2006/table">
            <a:tbl>
              <a:tblPr/>
              <a:tblGrid>
                <a:gridCol w="628920"/>
                <a:gridCol w="1341360"/>
                <a:gridCol w="1727280"/>
                <a:gridCol w="3308040"/>
                <a:gridCol w="1490760"/>
              </a:tblGrid>
              <a:tr h="5382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学位论文题目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5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课题经费来源（项目编号）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3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学位论文盲审评阅成绩（平均分）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00"/>
                          </a:solidFill>
                          <a:latin typeface="宋体"/>
                        </a:rPr>
                        <a:t>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00"/>
                          </a:solidFill>
                          <a:latin typeface="宋体"/>
                        </a:rPr>
                        <a:t>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00"/>
                          </a:solidFill>
                          <a:latin typeface="宋体"/>
                        </a:rPr>
                        <a:t>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00"/>
                          </a:solidFill>
                          <a:latin typeface="宋体"/>
                        </a:rPr>
                        <a:t>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姓  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职称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导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工作单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担任职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马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*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教授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博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北京大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主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</a:tr>
              <a:tr h="54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委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</a:tr>
              <a:tr h="54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</a:tr>
              <a:tr h="54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</a:tr>
              <a:tr h="5490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学位论文答辩成绩（平均成绩）：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***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4" name="Text Box 2"/>
          <p:cNvSpPr/>
          <p:nvPr/>
        </p:nvSpPr>
        <p:spPr>
          <a:xfrm>
            <a:off x="46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宁夏医科大学二○一九届毕业研究生情况简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250920" y="333360"/>
          <a:ext cx="8642160" cy="6453360"/>
        </p:xfrm>
        <a:graphic>
          <a:graphicData uri="http://schemas.openxmlformats.org/drawingml/2006/table">
            <a:tbl>
              <a:tblPr/>
              <a:tblGrid>
                <a:gridCol w="792000"/>
                <a:gridCol w="2592360"/>
                <a:gridCol w="936720"/>
                <a:gridCol w="936720"/>
                <a:gridCol w="2448000"/>
                <a:gridCol w="936360"/>
              </a:tblGrid>
              <a:tr h="500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课程名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成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课程名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成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</a:tr>
              <a:tr h="701640">
                <a:tc rowSpan="8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现代科学技术革命与马克思主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 rowSpan="8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</a:tr>
              <a:tr h="766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高级英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</a:tr>
              <a:tr h="49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</a:tr>
              <a:tr h="49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</a:tr>
              <a:tr h="498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获得学分：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**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获得学分：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*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89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[1]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李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X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，王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X.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小鼠卵巢器官不同部位移植的比较研究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  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中国组织工程研究与临床康复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,2015,18:3530-3534. </a:t>
                      </a:r>
                      <a:r>
                        <a:rPr b="1" lang="zh-CN" sz="2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（</a:t>
                      </a: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IF1.72</a:t>
                      </a:r>
                      <a:r>
                        <a:rPr b="1" lang="zh-CN" sz="2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cc66"/>
                      </a:solidFill>
                    </a:lnT>
                    <a:lnB w="13680">
                      <a:solidFill>
                        <a:srgbClr val="00cc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6" name="Text Box 25"/>
          <p:cNvSpPr/>
          <p:nvPr/>
        </p:nvSpPr>
        <p:spPr>
          <a:xfrm>
            <a:off x="-621000" y="5373720"/>
            <a:ext cx="1643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在校期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发表论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李宏辉</cp:lastModifiedBy>
  <dcterms:modified xsi:type="dcterms:W3CDTF">2019-04-16T02:10:14Z</dcterms:modified>
  <cp:revision>1239</cp:revision>
  <dc:subject/>
  <dc:title>PowerPoint Presentation</dc:title>
</cp:coreProperties>
</file>