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E69-9BD0-454D-AE94-778C3AAB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219-73D2-44FF-9DEC-5232088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F42-6181-4ED0-B8AF-12FF205E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5A4-0A20-4DC4-955B-3A0127E1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862-4B70-44B0-BE96-71C28C6A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7D2-32B4-49CA-B639-4CDCFA8D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567-858C-4498-84A7-4A41103D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229-115F-462A-B35A-C92D75A7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8BB-1A68-4E73-827B-5880873E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776-F095-4806-B363-15E878C1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D33-E6BE-40FC-BBC7-D2EBD32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F8D-63D5-409F-A692-977EE05D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C38-04EC-4990-ABD4-24A4868D6A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557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92360" y="2133720"/>
            <a:ext cx="66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填表说明：此幻灯为各学院开学位评定分委员会所用，请各位同学按表中给定格式认真如实填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6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宁夏医科大学二○一九届毕业研究生情况简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98680" y="3352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简历（从大学开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61840" y="400356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间                                        何地从事何种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838080" y="396252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838080" y="449568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838080" y="6248520"/>
            <a:ext cx="78487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876240" y="4572000"/>
            <a:ext cx="77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5.9~2010.6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宁夏医科大学学习                  学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76240" y="5105520"/>
            <a:ext cx="82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0.7~2013.8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银川市第一人民医院工作    住院医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876240" y="5603760"/>
            <a:ext cx="77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3.9~2016.6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宁夏医科大学攻读硕士学位   学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12800" y="380880"/>
            <a:ext cx="33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生姓名：   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30080" y="1295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           别 ：       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712800" y="1752480"/>
            <a:ext cx="38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 生 年 月 ：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85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185120" y="22096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 科 专 业 ：   内科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117080" y="26668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导 师 姓 名 ：   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30080" y="838080"/>
            <a:ext cx="36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           号 ：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1" descr="u=3112610973,2445662355&amp;fm=58"/>
          <p:cNvPicPr/>
          <p:nvPr/>
        </p:nvPicPr>
        <p:blipFill>
          <a:blip r:embed="rId1"/>
          <a:stretch/>
        </p:blipFill>
        <p:spPr>
          <a:xfrm>
            <a:off x="7308720" y="189000"/>
            <a:ext cx="14288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66760" y="633240"/>
            <a:ext cx="85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位论文题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枸杞多糖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型糖尿病大鼠胰岛素抵抗的作用及机制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24000" y="184464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位论文盲审评阅成绩（平均分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403280" y="26719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姓  名    专业职称       工作单位          是否同意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324000" y="170028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43080" y="256536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343080" y="307188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50920" y="37162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答辩委员会 成 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43080" y="505296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346840" y="3108240"/>
            <a:ext cx="546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邱某某            教   授                天津医科大学总医院                   主 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409120" y="3487680"/>
            <a:ext cx="54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张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某某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教  授                宁夏医科大学总医院                    委  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460960" y="3868560"/>
            <a:ext cx="53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杨某某            教  授      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宁夏医科大学总医院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委  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554920" y="425124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董某某            副主任医师      宁夏医科大学总医院                    委  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350440" y="462276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王某某            教  授      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宁夏医科大学                             委  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50920" y="517032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位论文答辩成绩（平均成绩）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343080" y="573876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1388880" y="5815080"/>
            <a:ext cx="51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英语水平考试成绩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学位英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合格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3.0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43080" y="642456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343080" y="40464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3"/>
          <p:cNvSpPr/>
          <p:nvPr/>
        </p:nvSpPr>
        <p:spPr>
          <a:xfrm>
            <a:off x="336600" y="40464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283400" y="453960"/>
            <a:ext cx="67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课程名称                           成绩                  课程名称                            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2880" y="1428480"/>
            <a:ext cx="4852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   位   课   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47240" y="1233360"/>
            <a:ext cx="48528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非   学   位   课   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336600" y="93816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793800" y="1319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793800" y="1700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793800" y="208116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793800" y="2462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793800" y="2843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793800" y="322416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793800" y="3605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793800" y="3986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5213520" y="1319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5213520" y="1700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213520" y="208116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5213520" y="2462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5213520" y="2843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213520" y="322416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5213520" y="360504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5213520" y="3986280"/>
            <a:ext cx="35812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336600" y="4443480"/>
            <a:ext cx="8534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54520" y="4390200"/>
            <a:ext cx="7902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在校期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发表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4000" y="5734080"/>
            <a:ext cx="8534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692280" y="914400"/>
            <a:ext cx="35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自然辩证法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685800" y="129528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科学社会主义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692280" y="1676520"/>
            <a:ext cx="35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公共英语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692280" y="2057400"/>
            <a:ext cx="36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专业英语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92280" y="2438280"/>
            <a:ext cx="37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分子生物学实验技术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684360" y="2852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实用多因素统计学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3"/>
          <p:cNvSpPr/>
          <p:nvPr/>
        </p:nvSpPr>
        <p:spPr>
          <a:xfrm>
            <a:off x="692280" y="3200400"/>
            <a:ext cx="36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高级生物化学技术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692280" y="3581280"/>
            <a:ext cx="35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内科内分泌学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5148360" y="98100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医学科研方法学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5148360" y="134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文献检索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5148360" y="177336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医学分子生物学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8"/>
          <p:cNvSpPr/>
          <p:nvPr/>
        </p:nvSpPr>
        <p:spPr>
          <a:xfrm>
            <a:off x="5148360" y="2133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医用统计学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148360" y="249228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计算机应用基础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5219640" y="2924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体育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1116000" y="4724280"/>
            <a:ext cx="7635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李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,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王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.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枸杞多糖对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型糖尿病大鼠血糖、血脂及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NF-α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水平的影响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宁夏医学杂志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2015, 3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201-2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2"/>
          <p:cNvSpPr/>
          <p:nvPr/>
        </p:nvSpPr>
        <p:spPr>
          <a:xfrm>
            <a:off x="5219640" y="32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实验动物学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李宏辉</cp:lastModifiedBy>
  <dcterms:modified xsi:type="dcterms:W3CDTF">2019-04-16T02:10:33Z</dcterms:modified>
  <cp:revision>1189</cp:revision>
  <dc:subject/>
  <dc:title>PowerPoint Presentation</dc:title>
</cp:coreProperties>
</file>